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68A-E9B6-4569-93C9-043DB0FA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A31-2846-4E38-A7A0-6C70276B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F11-CDA7-4A8D-AEAA-A715381C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6AC-3E00-4B97-8AD6-8FED4A3C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69B-A47D-48DA-BA1D-02AAA858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1EC-1A27-4368-B1F2-1E231EB5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3BD-5805-412E-8E1E-999DBE32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62E-F0EB-421A-9F71-5FC741CF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7EF-F0F3-4BB6-979B-8DFEE686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B1F-FDC6-439E-96C4-FF91582A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266-C620-4389-A34B-AB3C1F3A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FB6-DBAA-4A10-A15C-6C3D732D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4A91-337A-4A42-B8C7-7CCE4B176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1295280"/>
          <a:ext cx="758196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581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419720" y="3048120"/>
            <a:ext cx="228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de Creek S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 Fork Production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02920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4495680"/>
            <a:ext cx="190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cher/Bracken Pond (2 Samples 6/29/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34304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6080" y="396252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ll Ranch P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114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42670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gegger Pond -U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411480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banks Stock P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29200" y="4267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601200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624852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ot Base:  IsoTech Lab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9:22:22Z</dcterms:created>
  <dc:creator>chessonr</dc:creator>
  <dc:description/>
  <dc:language>en-US</dc:language>
  <cp:lastModifiedBy>chessonr</cp:lastModifiedBy>
  <dcterms:modified xsi:type="dcterms:W3CDTF">2004-07-09T20:30:03Z</dcterms:modified>
  <cp:revision>6</cp:revision>
  <dc:subject/>
  <dc:title>Slide 1</dc:title>
</cp:coreProperties>
</file>