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7E3-DF78-4DAA-B6B0-5D30D149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081-AB50-48D3-80AF-C792FD5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EB9-3B55-42B9-9399-2FCCB347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842-DE3F-4759-902B-44DBC816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8DD-EFF6-41FB-9B51-5B3D050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38A-2383-4B1C-89CA-72F6CCF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447-697F-4D09-82BE-FAFCA764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CEF-836A-482C-80AE-1B2A0DCF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8B8-FF37-4EEE-93F5-BFF96459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F14-E1BD-4D1B-9F67-E5932B8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F6F-CEB8-4CAA-BCFB-0D5F388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266-F929-427E-8BCF-A684427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95C-A9C2-48B9-8551-19E1D403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60400"/>
            <a:ext cx="6858000" cy="525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2057400"/>
            <a:ext cx="342900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057400"/>
            <a:ext cx="0" cy="297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010280" y="2057400"/>
            <a:ext cx="76320" cy="297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5029200"/>
            <a:ext cx="335268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21:37:03Z</dcterms:created>
  <dc:creator>chessonr</dc:creator>
  <dc:description/>
  <dc:language>en-US</dc:language>
  <cp:lastModifiedBy>chessonr</cp:lastModifiedBy>
  <dcterms:modified xsi:type="dcterms:W3CDTF">2004-08-20T21:38:53Z</dcterms:modified>
  <cp:revision>1</cp:revision>
  <dc:subject/>
  <dc:title>Slide 1</dc:title>
</cp:coreProperties>
</file>