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98F3-AF00-4BD8-8C5F-4ED59E7CA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1839-8FC3-404D-93E6-D4C1F4820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B41B-8EA9-4B7A-8051-377E3BDDA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C48A-0E6C-4A00-BC5A-F837F91D2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8D22-B633-417C-ABA2-966DCFA37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857C-E7A8-40EC-B26C-E76018BDA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576B-0808-4ED0-8584-07E6884F3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6E77-F0A7-4F0A-9D55-6BCEE4F6C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4781-D635-41E1-BC98-161F0B740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CF42-B496-4686-BA87-D7F3039C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1B26-4238-4907-9103-F5B3F779D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BDFA-E79F-428C-947C-F49A069A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59A74-392E-4459-95A7-E7EBD84F9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609480"/>
          <a:ext cx="9144000" cy="523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09480"/>
                    <a:ext cx="9144000" cy="52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8:59:40Z</dcterms:created>
  <dc:creator>chessonr</dc:creator>
  <dc:description/>
  <dc:language>en-US</dc:language>
  <cp:lastModifiedBy>chessonr</cp:lastModifiedBy>
  <dcterms:modified xsi:type="dcterms:W3CDTF">2004-04-13T19:01:07Z</dcterms:modified>
  <cp:revision>1</cp:revision>
  <dc:subject/>
  <dc:title>Slide 1</dc:title>
</cp:coreProperties>
</file>