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5B2-B020-4C4E-BC7A-AC9C5498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9DE-7CCE-4C18-A992-AD03D531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541-4B13-4B65-9454-7CAD43D6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72B-9BEC-470C-B8EF-C489C8F7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B03-4D28-4180-9C7B-B2B024A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583-8E8F-4DF5-8A49-B450D23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D72-F238-40AD-9364-E751C39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761-FA8B-4636-B408-DBBAD91B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41C-F5C4-4064-9D3E-42DEAE9E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7AC-B8CE-477E-9093-B53A0E6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B22-FF56-4081-9215-F1C2F5E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FC0-D82F-49DD-A257-817499F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5EB-530D-4BFE-90CE-B90257F26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1295280"/>
          <a:ext cx="758196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581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19720" y="304812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de Creek S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Fork Production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2920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495680"/>
            <a:ext cx="190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cher/Bracken Pond (2 Samples 6/29/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430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6080" y="396252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ll Ranch P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114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267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gegger Pond -U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4114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banks Stock P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29200" y="4267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601200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624852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ot Base:  IsoTech Lab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9:22:22Z</dcterms:created>
  <dc:creator>chessonr</dc:creator>
  <dc:description/>
  <dc:language>en-US</dc:language>
  <cp:lastModifiedBy>chessonr</cp:lastModifiedBy>
  <dcterms:modified xsi:type="dcterms:W3CDTF">2004-07-09T20:30:03Z</dcterms:modified>
  <cp:revision>6</cp:revision>
  <dc:subject/>
  <dc:title>Slide 1</dc:title>
</cp:coreProperties>
</file>