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F8B5-0436-43C1-B96C-7C4FCD241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80DE-8EBA-45CC-BA0B-98DA1221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355B-1320-4D47-9A40-6C9DF50B1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84AE-1B32-43DB-83FB-8325C950A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C314-75B7-44A1-A89C-7DFEC6DF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8606-0A94-498E-91E7-CD7D0B6D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7CB0-489D-4133-B960-4AA39D21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60B4-9C22-4E37-9790-4F230D97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E63F-477E-4E2D-B869-FE708110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1EBF-D894-450C-A26B-146F489C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7796-E3F2-443A-B844-BDEAD701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7E2F-1333-4D89-A89E-3787E1A8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B622-318C-4A4D-92EC-C62655343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609480"/>
          <a:ext cx="9144000" cy="523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914400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8:59:40Z</dcterms:created>
  <dc:creator>chessonr</dc:creator>
  <dc:description/>
  <dc:language>en-US</dc:language>
  <cp:lastModifiedBy>chessonr</cp:lastModifiedBy>
  <dcterms:modified xsi:type="dcterms:W3CDTF">2004-04-13T19:01:07Z</dcterms:modified>
  <cp:revision>1</cp:revision>
  <dc:subject/>
  <dc:title>Slide 1</dc:title>
</cp:coreProperties>
</file>