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E1A-49D8-4F85-B194-E8CA03E8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004-C77A-4977-8A61-3DAA84CE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DFC-B48C-4140-A9F6-D8470590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F60-C7D7-4B01-8CC9-3C2A2C19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F29-B747-44A9-A4CB-0B583EB1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B2D-E556-463A-BAD7-2493629B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3E8-EBE4-4FB9-AA5D-AC5BC290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483-F818-4A31-A555-AE1E6B9E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72F-4D13-4B3C-A53D-53E36020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83C-880B-4462-9953-4486930B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E9B-0769-484A-9136-9B2A8BA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305-0A5C-429A-BCCA-8E6B0627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BEB8-E704-4020-9B7D-F939024B7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800080" cy="373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5715000" cy="3981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14600" y="22860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 Creek Seep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257800"/>
            <a:ext cx="304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thy Friesen – En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ic Lane – En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 Chesson - COG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191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on Plsek - C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20574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a Bracken and 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4057920" cy="54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096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ping G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609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“biofil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21337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nel for Seep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60240" y="53352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52680" y="44197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 Bubbles in “beaver p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4400280" cy="5867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762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denhead Sample – Schwartz  2-15B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71600" y="6172200"/>
            <a:ext cx="678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"/>
              </a:rPr>
              <a:t>LANGEGGER UPPER POND Section 12 T7S R92W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Univers"/>
              </a:rPr>
              <a:t>GAS &amp; WATER SAMPLING 4/8/0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0:39:25Z</dcterms:created>
  <dc:creator>chessonr</dc:creator>
  <dc:description/>
  <dc:language>en-US</dc:language>
  <cp:lastModifiedBy>chessonr</cp:lastModifiedBy>
  <dcterms:modified xsi:type="dcterms:W3CDTF">2004-04-13T18:20:52Z</dcterms:modified>
  <cp:revision>8</cp:revision>
  <dc:subject/>
  <dc:title>Slide 1</dc:title>
</cp:coreProperties>
</file>