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959-241D-4287-948A-90C1A305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E10-292D-450A-9B29-F431E2A6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025-7C99-404C-930F-6E992C8F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713D-AC4A-49FB-ACB8-BA57E528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7C2-591F-44D2-9C9D-F6D53258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9EA-DD3D-4823-B3B9-FE82725E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4AC-54BE-40EB-BF1D-159C0F2E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33D-E478-4A34-B470-B5912832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755-9C0E-4FE6-BA22-D0E70199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820C-050E-4C3F-93DC-9F44BB94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1AE-AC0D-42D0-8DDD-128D992E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2FA1-AE5E-41FE-959E-FB87AC91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76E1-918E-4D1D-AAD8-360C2032B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860400"/>
            <a:ext cx="6858000" cy="5253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57600" y="2057400"/>
            <a:ext cx="3429000" cy="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057400"/>
            <a:ext cx="0" cy="297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7010280" y="2057400"/>
            <a:ext cx="76320" cy="297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5029200"/>
            <a:ext cx="3352680" cy="0"/>
          </a:xfrm>
          <a:prstGeom prst="line">
            <a:avLst/>
          </a:prstGeom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21:37:03Z</dcterms:created>
  <dc:creator>chessonr</dc:creator>
  <dc:description/>
  <dc:language>en-US</dc:language>
  <cp:lastModifiedBy>chessonr</cp:lastModifiedBy>
  <dcterms:modified xsi:type="dcterms:W3CDTF">2004-08-20T21:38:53Z</dcterms:modified>
  <cp:revision>1</cp:revision>
  <dc:subject/>
  <dc:title>Slide 1</dc:title>
</cp:coreProperties>
</file>