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DFD-EC9A-4531-A410-743CA570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6A6-4F3F-4A67-B0D3-69CAE2F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A54-9CD0-4575-BBA7-BF13CF67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D3E-0E23-40A3-A7AD-445C615B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F5E-6795-4954-ADD3-4A8F84D6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5DC-258A-4458-84F0-834E4C2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AD1-8D6E-4001-B798-30BF311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F9B-04D1-4F55-AB37-938B52B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730-46FC-4C98-991F-F1C01576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B43-2616-4D80-BB75-20BDE3A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E7A-86A3-46A8-87E4-5A421EE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4ED-2C7D-4FE5-8B01-E64A6B3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159E-E174-4819-AE5D-35DD5F79D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5715000" cy="398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2286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Creek Seep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25780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hy Friesen – En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ic Lane – En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 Chesson - COG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n Plsek - C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057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a Bracken and 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05792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6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ping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“biofil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nel for Seep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0240" y="5335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4419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Bubbles in “beaver p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4400280" cy="586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62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denhead Sample – Schwartz  2-15B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6172200"/>
            <a:ext cx="67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"/>
              </a:rPr>
              <a:t>LANGEGGER UPPER POND Section 12 T7S R92W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Univers"/>
              </a:rPr>
              <a:t>GAS &amp; WATER SAMPLING 4/8/0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0:39:25Z</dcterms:created>
  <dc:creator>chessonr</dc:creator>
  <dc:description/>
  <dc:language>en-US</dc:language>
  <cp:lastModifiedBy>chessonr</cp:lastModifiedBy>
  <dcterms:modified xsi:type="dcterms:W3CDTF">2004-04-13T18:20:52Z</dcterms:modified>
  <cp:revision>8</cp:revision>
  <dc:subject/>
  <dc:title>Slide 1</dc:title>
</cp:coreProperties>
</file>